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B899E-E472-4C98-AD52-C10D4895E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FE84C-ADE2-4047-AB3D-6917DF5E6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D5E3E-A849-4294-95FD-AFB1C13A1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D2B9E-2256-4D05-AB77-46871FF1E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0CA1D-3B98-482E-8BC2-FAD282F70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2F99B-7222-42A1-BCF8-06E1F5C30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080DE-7E5F-468E-9883-1D616A54E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8C890-1227-44C4-AD9F-626DB3AE4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BCDC4-5F61-4D6B-BE35-61208BB1E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0083C-2E97-4FBB-B7A7-42DCF90AA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25395-CA90-4DC1-B2D4-8E6679076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387B3-B63F-4177-9FA7-05B6AF0C5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49190-3FBA-476F-9A25-23D03882A209}" type="slidenum">
              <a:rPr b="0" lang="en-N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18816" t="18684" r="19905" b="21293"/>
          <a:stretch/>
        </p:blipFill>
        <p:spPr>
          <a:xfrm>
            <a:off x="2843280" y="2008080"/>
            <a:ext cx="3600360" cy="26449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42" name=""/>
          <p:cNvSpPr txBox="1"/>
          <p:nvPr/>
        </p:nvSpPr>
        <p:spPr>
          <a:xfrm>
            <a:off x="324000" y="549360"/>
            <a:ext cx="85690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ELECTRON CONFIGURATIONS</a:t>
            </a:r>
            <a:endParaRPr b="0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2340000" y="5445000"/>
            <a:ext cx="439272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333399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EXAMPLES</a:t>
            </a:r>
            <a:endParaRPr b="0" lang="en-US" sz="1800" spc="1" strike="noStrike">
              <a:ln w="28440">
                <a:solidFill>
                  <a:srgbClr val="333399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slow">
    <p:push dir="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 flipV="1">
            <a:off x="1547640" y="188640"/>
            <a:ext cx="0" cy="6335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1332000" y="6308640"/>
            <a:ext cx="734364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1835280" y="5518080"/>
            <a:ext cx="576000" cy="50328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1835280" y="4221000"/>
            <a:ext cx="576000" cy="50328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700360" y="3500280"/>
            <a:ext cx="576360" cy="50328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3564000" y="3500280"/>
            <a:ext cx="576360" cy="50328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4429080" y="3500280"/>
            <a:ext cx="576360" cy="50328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1835280" y="2709720"/>
            <a:ext cx="576000" cy="50328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700360" y="1989000"/>
            <a:ext cx="576360" cy="50328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564000" y="1989000"/>
            <a:ext cx="576360" cy="50328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4429080" y="1989000"/>
            <a:ext cx="576360" cy="50328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1835280" y="1268280"/>
            <a:ext cx="576000" cy="5032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5003640" y="476280"/>
            <a:ext cx="576360" cy="50328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476280"/>
            <a:ext cx="576360" cy="50328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730920" y="476280"/>
            <a:ext cx="576360" cy="50328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7594560" y="476280"/>
            <a:ext cx="576360" cy="50328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33640" y="423720"/>
            <a:ext cx="114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6165720" y="6381720"/>
            <a:ext cx="25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ERGY SUBLEV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6372360" y="30686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968440" y="2924280"/>
            <a:ext cx="261288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p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important examp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293720" y="5013360"/>
            <a:ext cx="61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s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 flipV="1">
            <a:off x="2050920" y="5589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195640" y="5589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4808160" y="5013360"/>
            <a:ext cx="61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s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 flipV="1">
            <a:off x="2050920" y="4292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2195640" y="42919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5301360" y="5013360"/>
            <a:ext cx="63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p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 flipV="1">
            <a:off x="2916360" y="3573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060720" y="357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 flipV="1">
            <a:off x="3780000" y="3573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3924360" y="357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 flipV="1">
            <a:off x="4643280" y="3573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4788000" y="357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V="1">
            <a:off x="2050920" y="2781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2195640" y="2780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 flipV="1">
            <a:off x="2916360" y="2060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060720" y="20599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 flipV="1">
            <a:off x="3780000" y="2060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924360" y="20599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805000" y="5013360"/>
            <a:ext cx="61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s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6309720" y="5013360"/>
            <a:ext cx="63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p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flipV="1">
            <a:off x="4643280" y="2060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4788000" y="20599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6808320" y="5013360"/>
            <a:ext cx="61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s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 flipV="1">
            <a:off x="2050920" y="1341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264080" y="5013360"/>
            <a:ext cx="73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d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8388360" y="476280"/>
            <a:ext cx="576360" cy="50328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3469320" y="5451480"/>
            <a:ext cx="511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A partially filled 3d sublevel with 3d</a:t>
            </a:r>
            <a:r>
              <a:rPr b="1" lang="en-NZ" sz="1800" spc="-1" strike="noStrike" baseline="30000">
                <a:solidFill>
                  <a:srgbClr val="000000"/>
                </a:solidFill>
                <a:latin typeface="Arial"/>
              </a:rPr>
              <a:t>5 </a:t>
            </a: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or 3d</a:t>
            </a:r>
            <a:r>
              <a:rPr b="1" lang="en-NZ" sz="1800" spc="-1" strike="noStrike" baseline="30000">
                <a:solidFill>
                  <a:srgbClr val="000000"/>
                </a:solidFill>
                <a:latin typeface="Arial"/>
              </a:rPr>
              <a:t>10</a:t>
            </a: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 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particulary sta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 flipV="1">
            <a:off x="5219640" y="549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5364000" y="54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6083280" y="549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6227640" y="54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 flipV="1">
            <a:off x="6948360" y="549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7093080" y="54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7812000" y="549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7956720" y="54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V="1">
            <a:off x="8604360" y="549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8748720" y="54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1" dur="1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4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1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5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8" dur="1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1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1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1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6" dur="1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1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2" dur="1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7" dur="1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0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1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6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9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2" dur="1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1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0" dur="1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1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1" dur="1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4" dur="1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7" dur="1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0" dur="1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1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6" dur="1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9" dur="1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2" dur="1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1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8" dur="1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1" dur="1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/>
          <p:nvPr/>
        </p:nvSpPr>
        <p:spPr>
          <a:xfrm flipV="1">
            <a:off x="1547640" y="188640"/>
            <a:ext cx="0" cy="6335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332000" y="6308640"/>
            <a:ext cx="734364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835280" y="5518080"/>
            <a:ext cx="576000" cy="50328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1835280" y="4221000"/>
            <a:ext cx="576000" cy="50328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700360" y="3500280"/>
            <a:ext cx="576360" cy="50328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3564000" y="3500280"/>
            <a:ext cx="576360" cy="50328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429080" y="3500280"/>
            <a:ext cx="576360" cy="50328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1835280" y="2709720"/>
            <a:ext cx="576000" cy="50328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700360" y="1989000"/>
            <a:ext cx="576360" cy="50328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564000" y="1989000"/>
            <a:ext cx="576360" cy="50328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4429080" y="1989000"/>
            <a:ext cx="576360" cy="50328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1835280" y="1268280"/>
            <a:ext cx="576000" cy="5032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5003640" y="476280"/>
            <a:ext cx="576360" cy="50328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5867280" y="476280"/>
            <a:ext cx="576360" cy="50328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6730920" y="476280"/>
            <a:ext cx="576360" cy="50328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7594560" y="476280"/>
            <a:ext cx="576360" cy="50328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33640" y="423720"/>
            <a:ext cx="114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6165720" y="6381720"/>
            <a:ext cx="25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ERGY SUBLEV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6372360" y="30686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6493320" y="2924280"/>
            <a:ext cx="15660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xygen 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4293720" y="5013360"/>
            <a:ext cx="61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s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 flipV="1">
            <a:off x="2050920" y="5589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195640" y="5589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4808160" y="5013360"/>
            <a:ext cx="61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s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 flipV="1">
            <a:off x="2050920" y="4292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195640" y="42919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5301360" y="5013360"/>
            <a:ext cx="63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p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 flipV="1">
            <a:off x="2916360" y="3573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3060720" y="357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 flipV="1">
            <a:off x="3780000" y="3573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3924360" y="357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 flipV="1">
            <a:off x="4643280" y="3573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4788000" y="357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8388360" y="476280"/>
            <a:ext cx="576360" cy="50328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  <p:timing>
    <p:tnLst>
      <p:par>
        <p:cTn id="632" dur="indefinite" restart="never" nodeType="tmRoot">
          <p:childTnLst>
            <p:seq>
              <p:cTn id="633" dur="indefinite" nodeType="mainSeq">
                <p:childTnLst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8" dur="10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1" dur="1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9" dur="10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2" dur="1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1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0" dur="1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3" dur="1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6" dur="1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9" dur="1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1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5" dur="10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8" dur="1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"/>
          <p:cNvSpPr/>
          <p:nvPr/>
        </p:nvSpPr>
        <p:spPr>
          <a:xfrm flipV="1">
            <a:off x="1547640" y="188640"/>
            <a:ext cx="0" cy="6335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1332000" y="6308640"/>
            <a:ext cx="734364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1835280" y="5518080"/>
            <a:ext cx="576000" cy="50328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835280" y="4221000"/>
            <a:ext cx="576000" cy="50328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700360" y="3500280"/>
            <a:ext cx="576360" cy="50328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564000" y="3500280"/>
            <a:ext cx="576360" cy="50328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4429080" y="3500280"/>
            <a:ext cx="576360" cy="50328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835280" y="2709720"/>
            <a:ext cx="576000" cy="50328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700360" y="1989000"/>
            <a:ext cx="576360" cy="50328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3564000" y="1989000"/>
            <a:ext cx="576360" cy="50328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4429080" y="1989000"/>
            <a:ext cx="576360" cy="50328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1835280" y="1268280"/>
            <a:ext cx="576000" cy="5032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5003640" y="476280"/>
            <a:ext cx="576360" cy="50328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5867280" y="476280"/>
            <a:ext cx="576360" cy="50328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6730920" y="476280"/>
            <a:ext cx="576360" cy="50328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594560" y="476280"/>
            <a:ext cx="576360" cy="50328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233640" y="423720"/>
            <a:ext cx="114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165720" y="6381720"/>
            <a:ext cx="25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ERGY SUBLEV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372360" y="30686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6263280" y="2924280"/>
            <a:ext cx="203076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gnesium 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4293720" y="5013360"/>
            <a:ext cx="61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s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 flipV="1">
            <a:off x="2050920" y="5589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195640" y="5589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4808160" y="5013360"/>
            <a:ext cx="61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s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 flipV="1">
            <a:off x="2050920" y="4292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2195640" y="42919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5301360" y="5013360"/>
            <a:ext cx="63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p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2916360" y="3573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3060720" y="357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V="1">
            <a:off x="3780000" y="3573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3924360" y="357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 flipV="1">
            <a:off x="4643280" y="3573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4788000" y="357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388360" y="476280"/>
            <a:ext cx="576360" cy="50328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  <p:timing>
    <p:tnLst>
      <p:par>
        <p:cTn id="679" dur="indefinite" restart="never" nodeType="tmRoot">
          <p:childTnLst>
            <p:seq>
              <p:cTn id="680" dur="indefinite" nodeType="mainSeq">
                <p:childTnLst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5" dur="10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8" dur="10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1" dur="10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6" dur="1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9" dur="10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2" dur="10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7" dur="10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10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10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10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10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2" dur="10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5" dur="10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"/>
          <p:cNvSpPr/>
          <p:nvPr/>
        </p:nvSpPr>
        <p:spPr>
          <a:xfrm flipV="1">
            <a:off x="1547640" y="188640"/>
            <a:ext cx="0" cy="6335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1332000" y="6308640"/>
            <a:ext cx="734364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1835280" y="5518080"/>
            <a:ext cx="576000" cy="50328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1835280" y="4221000"/>
            <a:ext cx="576000" cy="50328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700360" y="3500280"/>
            <a:ext cx="576360" cy="50328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3564000" y="3500280"/>
            <a:ext cx="576360" cy="50328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4429080" y="3500280"/>
            <a:ext cx="576360" cy="50328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1835280" y="2709720"/>
            <a:ext cx="576000" cy="50328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700360" y="1989000"/>
            <a:ext cx="576360" cy="50328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3564000" y="1989000"/>
            <a:ext cx="576360" cy="50328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4429080" y="1989000"/>
            <a:ext cx="576360" cy="50328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835280" y="1268280"/>
            <a:ext cx="576000" cy="5032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5003640" y="476280"/>
            <a:ext cx="576360" cy="50328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5867280" y="476280"/>
            <a:ext cx="576360" cy="50328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6730920" y="476280"/>
            <a:ext cx="576360" cy="50328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7594560" y="476280"/>
            <a:ext cx="576360" cy="50328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233640" y="423720"/>
            <a:ext cx="114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6165720" y="6381720"/>
            <a:ext cx="25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ERGY SUBLEV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6372360" y="30686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6354720" y="2924280"/>
            <a:ext cx="184176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u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pper 2+ 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4293720" y="5013360"/>
            <a:ext cx="61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s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 flipV="1">
            <a:off x="2050920" y="5589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2195640" y="5589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4808160" y="5013360"/>
            <a:ext cx="61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s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 flipV="1">
            <a:off x="2050920" y="4292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2195640" y="42919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5301360" y="5013360"/>
            <a:ext cx="63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p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916360" y="3573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3060720" y="357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 flipV="1">
            <a:off x="3780000" y="3573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3924360" y="357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 flipV="1">
            <a:off x="4643280" y="3573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4788000" y="357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 flipV="1">
            <a:off x="2050920" y="2781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2195640" y="2780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 flipV="1">
            <a:off x="2916360" y="2060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3060720" y="20599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 flipV="1">
            <a:off x="3780000" y="2060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924360" y="20599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5805000" y="5013360"/>
            <a:ext cx="61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s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6309720" y="5013360"/>
            <a:ext cx="63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p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 flipV="1">
            <a:off x="4643280" y="2060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4788000" y="20599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6812640" y="5013360"/>
            <a:ext cx="63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d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8388360" y="476280"/>
            <a:ext cx="576360" cy="50328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3474720" y="5451480"/>
            <a:ext cx="510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When forming a cation the atom loses the 4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electrons before the 3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5219640" y="549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5364000" y="54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 flipV="1">
            <a:off x="6083280" y="549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6227640" y="54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 flipV="1">
            <a:off x="6948360" y="549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7093080" y="54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 flipV="1">
            <a:off x="7812000" y="549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7956720" y="54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 flipV="1">
            <a:off x="8604360" y="549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2" dur="1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5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8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3" dur="1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9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4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7" dur="10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0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3" dur="1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6" dur="1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9" dur="1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2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7" dur="10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0" dur="10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3" dur="1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8" dur="1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1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4" dur="1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7" dur="1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0" dur="1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3" dur="1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6" dur="10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1" dur="1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4" dur="1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7" dur="1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0" dur="10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3" dur="10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6" dur="10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9" dur="10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2" dur="10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5" dur="10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8" dur="10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1" dur="10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547640" y="189000"/>
            <a:ext cx="7596360" cy="1655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547640" y="1987560"/>
            <a:ext cx="7596360" cy="1297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547640" y="3284640"/>
            <a:ext cx="7596360" cy="1512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547640" y="5084640"/>
            <a:ext cx="7596360" cy="1224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1547640" y="188640"/>
            <a:ext cx="0" cy="6335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332000" y="6308640"/>
            <a:ext cx="734364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835280" y="5518080"/>
            <a:ext cx="576000" cy="50328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835280" y="4221000"/>
            <a:ext cx="576000" cy="50328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771640" y="3500280"/>
            <a:ext cx="576360" cy="50328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635280" y="3500280"/>
            <a:ext cx="576360" cy="50328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00720" y="3500280"/>
            <a:ext cx="576000" cy="50328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835280" y="2709720"/>
            <a:ext cx="576000" cy="50328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771640" y="1989000"/>
            <a:ext cx="576360" cy="50328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635280" y="1989000"/>
            <a:ext cx="576360" cy="50328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00720" y="1989000"/>
            <a:ext cx="576000" cy="50328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835280" y="1268280"/>
            <a:ext cx="576000" cy="5032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076720" y="476280"/>
            <a:ext cx="576360" cy="50328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940360" y="476280"/>
            <a:ext cx="576360" cy="50328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04000" y="476280"/>
            <a:ext cx="576360" cy="50328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596360" y="476280"/>
            <a:ext cx="576000" cy="50328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33640" y="423720"/>
            <a:ext cx="114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165720" y="6381720"/>
            <a:ext cx="25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ERGY SUBLEV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372360" y="30686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8360" y="476280"/>
            <a:ext cx="576360" cy="50328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57080" y="558972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57080" y="393372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57080" y="234936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=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57080" y="112536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=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910160" y="5222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10160" y="39258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709800" y="3133800"/>
            <a:ext cx="44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10160" y="24145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709800" y="1622520"/>
            <a:ext cx="44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910160" y="974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878520" y="182520"/>
            <a:ext cx="44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971160" y="5222880"/>
            <a:ext cx="405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vel 1 – 1 sublevel and 1 orbital 1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2556000" y="5445000"/>
            <a:ext cx="129528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448240" y="3736800"/>
            <a:ext cx="3695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Level 2 – 2 sublevels with 1 orbital in the first sublevel 2s, and 3 orbitals in the second 2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2555640" y="4437000"/>
            <a:ext cx="287964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 flipV="1">
            <a:off x="3924360" y="4149720"/>
            <a:ext cx="151128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580000" y="1989000"/>
            <a:ext cx="345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Level 3 – 3 sublevels with 1 orbital in the first sublevel 3s, 3 orbitals in the second 3p and five in the third 3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2626920" y="2781360"/>
            <a:ext cx="280836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H="1" flipV="1">
            <a:off x="3924360" y="2636640"/>
            <a:ext cx="151128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435640" y="1125360"/>
            <a:ext cx="216000" cy="165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1547640" y="188640"/>
            <a:ext cx="0" cy="6335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332000" y="6308640"/>
            <a:ext cx="734364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835280" y="5518080"/>
            <a:ext cx="576000" cy="50328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5280" y="4221000"/>
            <a:ext cx="576000" cy="50328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771640" y="3500280"/>
            <a:ext cx="576360" cy="50328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635280" y="3500280"/>
            <a:ext cx="576360" cy="50328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500720" y="3500280"/>
            <a:ext cx="576000" cy="50328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835280" y="2709720"/>
            <a:ext cx="576000" cy="50328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771640" y="1989000"/>
            <a:ext cx="576360" cy="50328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635280" y="1989000"/>
            <a:ext cx="576360" cy="50328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00720" y="1989000"/>
            <a:ext cx="576000" cy="50328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835280" y="1268280"/>
            <a:ext cx="576000" cy="5032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76720" y="476280"/>
            <a:ext cx="576360" cy="50328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940360" y="476280"/>
            <a:ext cx="576360" cy="50328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804000" y="476280"/>
            <a:ext cx="576360" cy="50328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596360" y="476280"/>
            <a:ext cx="576000" cy="50328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33640" y="423720"/>
            <a:ext cx="114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165720" y="6381720"/>
            <a:ext cx="25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ERGY SUBLEV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372360" y="30686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446520" y="2924280"/>
            <a:ext cx="160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ydro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293720" y="5013360"/>
            <a:ext cx="61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s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2050920" y="5589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39640" y="5300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84360" y="52999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8388360" y="476280"/>
            <a:ext cx="576360" cy="50328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 flipV="1">
            <a:off x="1547640" y="188640"/>
            <a:ext cx="0" cy="6335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332000" y="6308640"/>
            <a:ext cx="734364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835280" y="5518080"/>
            <a:ext cx="576000" cy="50328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35280" y="4221000"/>
            <a:ext cx="576000" cy="50328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771640" y="3500280"/>
            <a:ext cx="576360" cy="50328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635280" y="3500280"/>
            <a:ext cx="576360" cy="50328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500720" y="3500280"/>
            <a:ext cx="576000" cy="50328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35280" y="2709720"/>
            <a:ext cx="576000" cy="50328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771640" y="1989000"/>
            <a:ext cx="576360" cy="50328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635280" y="1989000"/>
            <a:ext cx="576360" cy="50328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500720" y="1989000"/>
            <a:ext cx="576000" cy="50328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835280" y="1268280"/>
            <a:ext cx="576000" cy="5032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076720" y="476280"/>
            <a:ext cx="576360" cy="50328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40360" y="476280"/>
            <a:ext cx="576360" cy="50328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804000" y="476280"/>
            <a:ext cx="576360" cy="50328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596360" y="476280"/>
            <a:ext cx="576000" cy="50328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33640" y="423720"/>
            <a:ext cx="114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165720" y="6381720"/>
            <a:ext cx="25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ERGY SUBLEV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372360" y="30686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443640" y="292428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th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293720" y="5013360"/>
            <a:ext cx="61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s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2050920" y="5589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195640" y="5589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2050920" y="4292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808160" y="5013360"/>
            <a:ext cx="61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s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388360" y="476280"/>
            <a:ext cx="576360" cy="50328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 flipV="1">
            <a:off x="1547640" y="188640"/>
            <a:ext cx="0" cy="6335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0" y="6308640"/>
            <a:ext cx="734364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835280" y="5518080"/>
            <a:ext cx="576000" cy="50328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835280" y="4221000"/>
            <a:ext cx="576000" cy="50328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771640" y="3500280"/>
            <a:ext cx="576360" cy="50328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635280" y="3500280"/>
            <a:ext cx="576360" cy="50328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500720" y="3500280"/>
            <a:ext cx="576000" cy="50328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835280" y="2709720"/>
            <a:ext cx="576000" cy="50328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771640" y="1989000"/>
            <a:ext cx="576360" cy="50328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635280" y="1989000"/>
            <a:ext cx="576360" cy="50328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500720" y="1989000"/>
            <a:ext cx="576000" cy="50328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835280" y="1268280"/>
            <a:ext cx="576000" cy="5032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076720" y="476280"/>
            <a:ext cx="576360" cy="50328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940360" y="476280"/>
            <a:ext cx="576360" cy="50328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804000" y="476280"/>
            <a:ext cx="576360" cy="50328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596360" y="476280"/>
            <a:ext cx="576000" cy="50328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33640" y="423720"/>
            <a:ext cx="114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165720" y="6381720"/>
            <a:ext cx="25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ERGY SUBLEV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372360" y="30686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797160" y="2924280"/>
            <a:ext cx="9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293720" y="5013360"/>
            <a:ext cx="61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s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050920" y="5589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195640" y="5589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808160" y="5013360"/>
            <a:ext cx="61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s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2050920" y="4292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195640" y="42919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301360" y="5013360"/>
            <a:ext cx="63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p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2987640" y="3573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132000" y="357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3851280" y="3573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995640" y="357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4714920" y="3573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859280" y="357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8388360" y="476280"/>
            <a:ext cx="576360" cy="50328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 flipV="1">
            <a:off x="1547640" y="188640"/>
            <a:ext cx="0" cy="6335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332000" y="6308640"/>
            <a:ext cx="734364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835280" y="5518080"/>
            <a:ext cx="576000" cy="50328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835280" y="4221000"/>
            <a:ext cx="576000" cy="50328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771640" y="3500280"/>
            <a:ext cx="576360" cy="50328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635280" y="3500280"/>
            <a:ext cx="576360" cy="50328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00720" y="3500280"/>
            <a:ext cx="576000" cy="50328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835280" y="2709720"/>
            <a:ext cx="576000" cy="50328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771640" y="1989000"/>
            <a:ext cx="576360" cy="50328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635280" y="1989000"/>
            <a:ext cx="576360" cy="50328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500720" y="1989000"/>
            <a:ext cx="576000" cy="50328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835280" y="1268280"/>
            <a:ext cx="576000" cy="5032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076720" y="476280"/>
            <a:ext cx="576360" cy="50328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940360" y="476280"/>
            <a:ext cx="576360" cy="50328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804000" y="476280"/>
            <a:ext cx="576360" cy="50328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596360" y="476280"/>
            <a:ext cx="576000" cy="50328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33640" y="423720"/>
            <a:ext cx="114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165720" y="6381720"/>
            <a:ext cx="25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ERGY SUBLEV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372360" y="30686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95720" y="2924280"/>
            <a:ext cx="133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lph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93720" y="5013360"/>
            <a:ext cx="61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s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2050920" y="5589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195640" y="5589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808160" y="5013360"/>
            <a:ext cx="61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s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2050920" y="4292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95640" y="42919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301360" y="5013360"/>
            <a:ext cx="63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p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2987640" y="3573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132000" y="357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3851280" y="3573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995640" y="357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4714920" y="3573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859280" y="357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2050920" y="2781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195640" y="2780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2987640" y="2060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132000" y="20599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3851280" y="2060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95640" y="20599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805000" y="5013360"/>
            <a:ext cx="61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s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309720" y="5013360"/>
            <a:ext cx="63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p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388360" y="476280"/>
            <a:ext cx="576360" cy="50328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 flipV="1">
            <a:off x="1547640" y="188640"/>
            <a:ext cx="0" cy="6335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332000" y="6308640"/>
            <a:ext cx="734364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835280" y="5518080"/>
            <a:ext cx="576000" cy="50328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835280" y="4221000"/>
            <a:ext cx="576000" cy="50328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771640" y="3500280"/>
            <a:ext cx="576360" cy="50328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635280" y="3500280"/>
            <a:ext cx="576360" cy="50328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500720" y="3500280"/>
            <a:ext cx="576000" cy="50328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835280" y="2709720"/>
            <a:ext cx="576000" cy="50328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771640" y="1989000"/>
            <a:ext cx="576360" cy="50328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635280" y="1989000"/>
            <a:ext cx="576360" cy="50328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500720" y="1989000"/>
            <a:ext cx="576000" cy="50328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835280" y="1268280"/>
            <a:ext cx="576000" cy="5032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076720" y="476280"/>
            <a:ext cx="576360" cy="50328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940360" y="476280"/>
            <a:ext cx="576360" cy="50328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804000" y="476280"/>
            <a:ext cx="576360" cy="50328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596360" y="476280"/>
            <a:ext cx="576000" cy="50328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33640" y="423720"/>
            <a:ext cx="114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165720" y="6381720"/>
            <a:ext cx="25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ERGY SUBLEV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372360" y="30686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445440" y="2924280"/>
            <a:ext cx="172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tass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293720" y="5013360"/>
            <a:ext cx="61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s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2050920" y="5589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195640" y="5589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808160" y="5013360"/>
            <a:ext cx="61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s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2050920" y="4292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195640" y="42919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301360" y="5013360"/>
            <a:ext cx="63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p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2987640" y="3573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132000" y="357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3851280" y="3573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995640" y="357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4714920" y="3573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859280" y="357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2050920" y="2781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195640" y="2780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2987640" y="2060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132000" y="20599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3851280" y="2060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95640" y="20599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805000" y="5013360"/>
            <a:ext cx="61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s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309720" y="5013360"/>
            <a:ext cx="63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p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4714920" y="2060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859280" y="20599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2050920" y="1341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808320" y="5013360"/>
            <a:ext cx="61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s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8388360" y="476280"/>
            <a:ext cx="576360" cy="50328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 flipV="1">
            <a:off x="1547640" y="188640"/>
            <a:ext cx="0" cy="6335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332000" y="6308640"/>
            <a:ext cx="734364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835280" y="5518080"/>
            <a:ext cx="576000" cy="50328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835280" y="4221000"/>
            <a:ext cx="576000" cy="50328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771640" y="3500280"/>
            <a:ext cx="576360" cy="50328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635280" y="3500280"/>
            <a:ext cx="576360" cy="50328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4500720" y="3500280"/>
            <a:ext cx="576000" cy="50328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835280" y="2709720"/>
            <a:ext cx="576000" cy="50328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771640" y="1989000"/>
            <a:ext cx="576360" cy="50328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635280" y="1989000"/>
            <a:ext cx="576360" cy="50328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500720" y="1989000"/>
            <a:ext cx="576000" cy="50328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835280" y="1268280"/>
            <a:ext cx="576000" cy="5032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076720" y="476280"/>
            <a:ext cx="576360" cy="50328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940360" y="476280"/>
            <a:ext cx="576360" cy="50328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804000" y="476280"/>
            <a:ext cx="576360" cy="50328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7596360" y="476280"/>
            <a:ext cx="576000" cy="50328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3640" y="423720"/>
            <a:ext cx="114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165720" y="6381720"/>
            <a:ext cx="25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ERGY SUBLEV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6372360" y="30686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444720" y="292428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r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293720" y="5013360"/>
            <a:ext cx="61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s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2050920" y="5589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195640" y="5589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4808160" y="5013360"/>
            <a:ext cx="61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s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 flipV="1">
            <a:off x="2050920" y="4292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2195640" y="42919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5301360" y="5013360"/>
            <a:ext cx="63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p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2987640" y="3573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132000" y="357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3851280" y="3573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995640" y="357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4714920" y="3573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859280" y="357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 flipV="1">
            <a:off x="2050920" y="2781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2195640" y="2780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2987640" y="2060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132000" y="20599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 flipV="1">
            <a:off x="3851280" y="2060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995640" y="20599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5805000" y="5013360"/>
            <a:ext cx="61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s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309720" y="5013360"/>
            <a:ext cx="63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p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 flipV="1">
            <a:off x="4714920" y="2060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4859280" y="20599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6808320" y="5013360"/>
            <a:ext cx="61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s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 flipV="1">
            <a:off x="2050920" y="1341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195640" y="1340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 flipV="1">
            <a:off x="5291280" y="549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5435640" y="54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V="1">
            <a:off x="6156360" y="549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6300720" y="54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V="1">
            <a:off x="7020000" y="549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7164360" y="54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7257240" y="5013360"/>
            <a:ext cx="63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d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8388360" y="476280"/>
            <a:ext cx="576360" cy="50328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 flipV="1">
            <a:off x="1547640" y="188640"/>
            <a:ext cx="0" cy="6335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32000" y="6308640"/>
            <a:ext cx="734364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835280" y="5518080"/>
            <a:ext cx="576000" cy="50328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835280" y="4221000"/>
            <a:ext cx="576000" cy="50328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2700360" y="3500280"/>
            <a:ext cx="576360" cy="50328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564000" y="3500280"/>
            <a:ext cx="576360" cy="50328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4429080" y="3500280"/>
            <a:ext cx="576360" cy="50328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1835280" y="2709720"/>
            <a:ext cx="576000" cy="50328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700360" y="1989000"/>
            <a:ext cx="576360" cy="50328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564000" y="1989000"/>
            <a:ext cx="576360" cy="50328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429080" y="1989000"/>
            <a:ext cx="576360" cy="50328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1835280" y="1268280"/>
            <a:ext cx="576000" cy="5032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5003640" y="476280"/>
            <a:ext cx="576360" cy="50328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5867280" y="476280"/>
            <a:ext cx="576360" cy="50328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6730920" y="476280"/>
            <a:ext cx="576360" cy="50328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7594560" y="476280"/>
            <a:ext cx="576360" cy="50328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33640" y="423720"/>
            <a:ext cx="114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6165720" y="6381720"/>
            <a:ext cx="25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ERGY SUBLEV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6372360" y="30686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968440" y="2924280"/>
            <a:ext cx="261288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rom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important examp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4293720" y="5013360"/>
            <a:ext cx="61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s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 flipV="1">
            <a:off x="2050920" y="5589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2195640" y="5589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808160" y="5013360"/>
            <a:ext cx="61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s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2050920" y="4292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195640" y="42919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5301360" y="5013360"/>
            <a:ext cx="63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p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 flipV="1">
            <a:off x="2916360" y="3573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3060720" y="357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 flipV="1">
            <a:off x="3780000" y="3573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924360" y="357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 flipV="1">
            <a:off x="4643280" y="3573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4788000" y="357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 flipV="1">
            <a:off x="2050920" y="2781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195640" y="2780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 flipV="1">
            <a:off x="2916360" y="2060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3060720" y="20599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 flipV="1">
            <a:off x="3780000" y="2060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924360" y="20599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05000" y="5013360"/>
            <a:ext cx="61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s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309720" y="5013360"/>
            <a:ext cx="63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p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 flipV="1">
            <a:off x="4643280" y="2060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4788000" y="20599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808320" y="5013360"/>
            <a:ext cx="61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s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 flipV="1">
            <a:off x="2050920" y="1341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 flipV="1">
            <a:off x="5218200" y="549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 flipV="1">
            <a:off x="6083280" y="549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 flipV="1">
            <a:off x="6946920" y="549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257240" y="5013360"/>
            <a:ext cx="63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d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388360" y="476280"/>
            <a:ext cx="576360" cy="503280"/>
          </a:xfrm>
          <a:prstGeom prst="rect">
            <a:avLst/>
          </a:prstGeom>
          <a:solidFill>
            <a:srgbClr val="66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 flipV="1">
            <a:off x="7885080" y="549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 flipV="1">
            <a:off x="8675640" y="549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3469320" y="5451480"/>
            <a:ext cx="511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A partially filled 3d sublevel with 3d</a:t>
            </a:r>
            <a:r>
              <a:rPr b="1" lang="en-NZ" sz="1800" spc="-1" strike="noStrike" baseline="30000">
                <a:solidFill>
                  <a:srgbClr val="000000"/>
                </a:solidFill>
                <a:latin typeface="Arial"/>
              </a:rPr>
              <a:t>5 </a:t>
            </a: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or 3d</a:t>
            </a:r>
            <a:r>
              <a:rPr b="1" lang="en-NZ" sz="1800" spc="-1" strike="noStrike" baseline="30000">
                <a:solidFill>
                  <a:srgbClr val="000000"/>
                </a:solidFill>
                <a:latin typeface="Arial"/>
              </a:rPr>
              <a:t>10</a:t>
            </a: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 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particulary sta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4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1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4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8" dur="1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4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1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8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6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2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8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1" dur="1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2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7T20:00:29Z</dcterms:created>
  <dc:creator>Administrator</dc:creator>
  <dc:description/>
  <dc:language>en-US</dc:language>
  <cp:lastModifiedBy>dlaurenc</cp:lastModifiedBy>
  <dcterms:modified xsi:type="dcterms:W3CDTF">2007-08-14T21:53:16Z</dcterms:modified>
  <cp:revision>18</cp:revision>
  <dc:subject/>
  <dc:title>Slide 1</dc:title>
</cp:coreProperties>
</file>